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C6F3-89B9-43B4-B495-A61D1747F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0366-CE3B-40F7-B33C-B071B8B31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F5B8-8C61-4129-8645-D256A5537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7B25-FECE-4C02-8271-D54E07FCC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2CCA-52DD-47F8-92F0-0F035D543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823F-2B9A-49D7-BD94-1ABC6BF17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CDDA-7737-4B60-B9E8-3A8740A9B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CABB-67D2-42A1-ADD3-FC6A3C29F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B93E-0CDE-4B61-975C-5DECE1C38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59EC-F676-4303-BA35-60435190F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8F3F-56B6-46C9-B36A-B68E11A08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206E-533D-4BEE-8737-96AD26070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1A0E-739D-4773-9EB4-1729DFC3E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3F30-814C-454E-9B5B-774B71075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5584-2BED-4D94-97CB-6AAC5FD92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8590-64A4-4F42-8F23-D21908871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6046-C0D6-409E-86AF-FD352340A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756E-6E6C-40A8-A86E-89FAB521D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B415-9532-4C38-89FD-1D0C80FC2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31C8-B904-4907-B7AA-73EE2619F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0AB6-7087-4C20-9AA4-C865F5D5E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8F4C-2A36-417C-8F52-EF57B6E8C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A10D-5637-4E1C-8213-CCBF21D61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01DC8-D832-407E-8666-85F020949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6CAD-B639-4360-A157-25160DB3F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3161D-0182-4A8E-AFE5-4CF4EF4A3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874CA-4DB1-4D35-8C32-EDFA9F8F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CD2DB-D1F5-4ECF-AEF7-BB54089D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12FD9-1EDB-4CF6-8785-AA460566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32432-1EEE-42CA-9758-B46FDC81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A3E72-A86F-422E-AF45-824A3D39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E0DB8-440B-450D-A4AA-ACD25DB8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76E6E-3C14-4ED5-96CA-4B68BC84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32B9D-A8DF-4C56-A18B-AA67DCCB5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94637-FF77-47B0-B63B-D3629FB4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F0D18-DCF0-4A03-9FBE-2864E5FD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85201-8B18-4A88-8DE1-924A9B6A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F3477-D1F8-4BB8-AF9E-32F301C6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BC580-1A32-45B5-A94C-C3E33DFE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058C28-4677-4514-BB4A-D04F56B1C4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5FF61B-1B6E-4A6F-9DA1-CD75ABDEBA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0E8749-B838-439A-B400-A39C5C66D0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B85365-0EE0-4D23-8738-876C39D804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9F56CB-C3A9-44E8-BAAB-3BD6C64B08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18FB0-EE04-4E92-A3FE-B5D33913BE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F7B7F7-BA73-4189-9CAF-DD1ECA1277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566574-20B3-409A-ABC3-0C1DE439DE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7E6289-C872-4881-B12D-3536FF080F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72DCDD-ACDA-44BB-AFB6-17DE4B63DB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36978-4CB4-4E46-96F9-B3097CF670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5B062A-C762-4C88-81DA-382BBD9A2F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750A97-6FA6-4129-939B-2D772DB2F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CFCA-961D-4284-AA7C-74877B073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038C0-20D2-4860-84AB-E0AFEE79A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58AD-8C49-4591-B731-7210AA528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70422-0308-4585-825A-216048B74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33785-B3CC-45C4-A9EF-986958231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1FFC9-070C-4724-9A22-F326E160D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7D37-E813-4ED4-88E7-1905D35C18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6B6E-72AC-4980-A2C2-B60D99E140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6"/>
          </p:nvPr>
        </p:nvSpPr>
        <p:spPr>
          <a:xfrm>
            <a:off x="380880" y="6400080"/>
            <a:ext cx="4114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7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DDAE-4B58-46E9-8E75-635D0FA67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258D-9258-4312-9EF7-66D3EDDA17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правил Вестгар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31480"/>
            <a:ext cx="838224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а д-ром Джеймсом О. Вестгардом, основана на принципах статис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бор правил или критериев для принятия решений о том, «в контроле» ли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, если в серии анализов поставлены контроли, по меньшей мере, двух уров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используют только с одним контр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9" descr="westgard_lecturing"/>
          <p:cNvPicPr/>
          <p:nvPr/>
        </p:nvPicPr>
        <p:blipFill>
          <a:blip r:embed="rId1"/>
          <a:stretch/>
        </p:blipFill>
        <p:spPr>
          <a:xfrm>
            <a:off x="2743200" y="39625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884920" y="4114800"/>
            <a:ext cx="21160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р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стг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5385-0624-4885-AD3C-73B411C1F3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1074240" y="468360"/>
            <a:ext cx="526932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1. Глюкоза: Номер партии а1б2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074960" y="3429000"/>
            <a:ext cx="526788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2. Глюкоза: Номер партии а2в3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584600" y="5911920"/>
            <a:ext cx="506880" cy="1828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Д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87FB-C2B0-4D2D-8261-4081AD4EC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тветы для занят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1704600"/>
            <a:ext cx="7391520" cy="41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1, 22, 24, 26, 27, 30, 31, 33, 34, 36-44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 контроле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66EB-EB07-4EBE-AAFE-A2E73AB730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399960"/>
            <a:ext cx="8369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азвания правил системы Вестгарда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695600"/>
            <a:ext cx="4190760" cy="48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2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4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0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пользуют для серий исследований, в которых поставлены контроли двух уровн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1" descr="j0082253"/>
          <p:cNvPicPr/>
          <p:nvPr/>
        </p:nvPicPr>
        <p:blipFill>
          <a:blip r:embed="rId1"/>
          <a:stretch/>
        </p:blipFill>
        <p:spPr>
          <a:xfrm>
            <a:off x="5791320" y="3276720"/>
            <a:ext cx="2501640" cy="304776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2"/>
          <p:cNvSpPr/>
          <p:nvPr/>
        </p:nvSpPr>
        <p:spPr>
          <a:xfrm>
            <a:off x="430200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768F-2A57-4CBB-A0F7-71B00DC3DE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6400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ВИЛ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ЕДУПРЕЖДЕНИ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причина для признания серии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 одного из двух контролей попадает вн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ывает на возможны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ющим шагом применить правил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E442-34EA-450C-88A4-F9FF77582B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52520"/>
            <a:ext cx="86868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онтроля одного уровня в двух последовательных сериях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и по одну сторону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а контроля в одной серии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льзя выдавать результаты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46080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37D7-56F2-4F6C-B4C1-364DF082A4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е одного контроля мен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, а значение другого контроля бол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вал между двумя результатами превышает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изошла случайная ошибка, серия результатов должна считаться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E726-4035-4202-93E4-EAD73F183D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7848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четырех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57200" y="53712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09FE-2DE8-48E1-AAE9-68BFCAE4FB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десяти последовательных сериях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яти последовательных сериях по одну сторону от средн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5867280" y="912960"/>
            <a:ext cx="2286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EC98-B663-4AE5-AB4A-9B3BCE75B7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К по правилам Вестгард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2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TextBox 1"/>
          <p:cNvSpPr/>
          <p:nvPr/>
        </p:nvSpPr>
        <p:spPr>
          <a:xfrm>
            <a:off x="2133720" y="2633760"/>
            <a:ext cx="532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20563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6709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52567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678060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7390440" y="370368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914400" y="3726000"/>
            <a:ext cx="48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838080" y="510552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238608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97980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553392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711036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3049560" y="2843280"/>
            <a:ext cx="502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 КОНТРОЛЕ»                  СЕРИЯ 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1523880" y="5605560"/>
            <a:ext cx="678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НЕ КОНТРОЛЯ»                              СЕРИЯ НЕ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rapezoid 6"/>
          <p:cNvSpPr/>
          <p:nvPr/>
        </p:nvSpPr>
        <p:spPr>
          <a:xfrm>
            <a:off x="647640" y="1332000"/>
            <a:ext cx="1658880" cy="86364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конт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18E3-FE1D-4927-A0F1-5C6F8EC2F4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0102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Verdana"/>
              </a:rPr>
              <a:t>Практическое занятие</a:t>
            </a: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1560600"/>
            <a:ext cx="72388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рименяя правила Вестгарда, проанализируйте ежедневные значения контролей (следующий слайд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Olga</cp:lastModifiedBy>
  <dcterms:modified xsi:type="dcterms:W3CDTF">2013-05-11T16:01:01Z</dcterms:modified>
  <cp:revision>21</cp:revision>
  <dc:subject/>
  <dc:title>Westgard Multirule System</dc:title>
</cp:coreProperties>
</file>